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8D20-1C8B-4C25-88DE-700B64EEDCD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 были аналогичны принципам предшествующей Парижск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критериев отбора в «Зону евро»  установле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конвертируемости может быть различно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валютного курса (особенно при фиксированном режиме)  лежит валютный паритет — это соотношение между двумя валютами, устанавливаемое в законодательном порядке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тетные (т. е. определенные исходя из паритета покупательной способности валют сравниваемых стран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 ⇒ оживление инвестиционной активности ⇒растет объем внутренних инвестиций ⇒снижение предложения национальной валюты для зарубежных инвестиций ⇒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екционистская политика увеличивает налоги на импорт ⇒ снижение импорта ⇒ снижение спроса на иностранную валюту ⇒ повышается реальный валютный кур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ая антиинфляционная политика укрепляет националь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нъюнктура валютного рынка определяется сложившимися в данный момент спросом и предложением на иностранную валют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современном этапе валютный рынок выглядит как совокупность национальных, региональных и мировых рын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к середине XIX века. Предпосыл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зависимости от степени либерализации внутреннего валютного законодательства национальный валютный рынок может существовать в форм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черного»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на основные 5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личие международных финансовых центр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ые финансовые центры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ы валютных рынков в зависимости от степени их организованност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внебиржевые валютные сделк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(в течении двух рабочих дней) – наличный или спот-рын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орвардный контракт (вне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ьючерсный контракт (биржевой контрак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опцион (характеризует право, а не обязанность купить/продать валюту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стро развивается срочный сектор валютного рынк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Валютный Фонд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В него входит 184 страны-участниц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поддержки (срок погашения 3 года 3 мес.-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сширенные кредиты (срок погашения 4,5 до 10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 (для менее развитых стран на срок от 3 лет 3 мес. до 5 лет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 (для урегулирования долгового кризиса РС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ыл создан в 1944 г. на Бреттон-Вудской международной конференции. Членами МБРР могут быть только страны-члены МВ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 Всемирного банка — это многоструктурная международная кредитная организац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меет два филиал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 (МАР) создана в 1960 г. МАР предоставляет беспроцентные кредиты наименее развитым странам на срок 35-40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 (МФК) создана в 1956 г. с целью стимулирования частных инвестиций в промышленность молодых государст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 (МИГА) учреждено в 1988 г. Его цель — страхования инвестиций и прямых капиталовложений от некоммерческих риск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ондонский клуб 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основных функций МВС следует отмети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Эволюция мировой валютной систем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818-8438-4BD4-A011-F800159C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6C2D-1A4C-4C2B-8B5F-5455E443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B2FC-01CC-4109-815E-F1CCBF43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4EB-7DCE-4F25-9835-9A92E553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4E38-6FAA-4151-A045-12326ABC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8DB0-E716-4CE1-B709-10EB8F48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AD59-A322-44DE-9325-C9CE323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637E-891D-4A42-B325-0CC7F52D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22DC-0640-4AFE-8B50-CCA8BD18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6B80-B3C3-4E58-957D-4CA3BCC3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A7C4-6D5C-4CFB-A943-99F1C97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7E7-9560-4A99-BFEE-D6DFE7E6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DC08-EEE2-49BE-9D2C-98A6664C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65ED-AA8E-41CF-980D-C9E9D47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70E-FD8B-4349-A06C-9F57AF52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F636-06D9-4086-A906-AFED706F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1CDF-5871-450F-A859-5C3F5CF1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B5C-AEA7-4C59-BF5A-A784ED08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FB1-B5E4-4512-A1EA-3DA5D668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8E6-C01D-4516-83EE-8F1D133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A58-E6A6-4EA8-A121-6ABFD901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DF8F-9FE2-409D-9E5F-9A925875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6878-D007-4554-AC79-4B8FB28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EF21-8B4B-425C-9FB7-05FDF1F9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1A0-9646-4994-AE13-CDB77B0404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C8E-BED1-4677-8AAF-2EFB815F77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547560"/>
            <a:ext cx="8424720" cy="1578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ема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еждународная валютная система и мировой валютный ры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000" y="2482560"/>
            <a:ext cx="784836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а и валютные курсы регулирование валютного кур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ировой валют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принципы Генуэзской валют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ыли аналогичны принципам предшествующей Парижск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, назначалось два основных способа размена национальной валюты в золо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первых, прямой — для валют, выполнявших роль девизов (фунт стерлингов, долла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-вторых, косвенный — для всех остальных валют данной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данной МВС использовался принцип свободноплавающих валютных кур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Бреттон-Вудской валютной системы являлис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золото сохрани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резервные валюты — доллар США,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обязательный размен резервных валют на золото по официальному курсу 35 долларов за 1 тройскую унцию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установлены фиксированные валютные кур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МВФ, МБРР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ри нарушении платежных балансов разрешалось урегулировать их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майская валютная система строилась на основании следующих принцип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 официально отменен золотой стандарт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 зафиксирована демонетизация золот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запрещены золотые паритеты — привязка валют к золоту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золото рассматривается как обычный това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) введен стандарт СДР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) резервные валюты - доллар США, марка ФРГ, фунт стерлингов, швейцарский франк, японская йена, французский франк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) установлен режим свободно плавающих валютных курсов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) узаконено создание замкнутых валютных бло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качестве критериев отбора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Зону евро»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установле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мпы инфляции не должны превышать аналогичный показатель в трех странах с наименьшим ростом цен более чем в 1,5 процентных пунк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фицит госбюджета не должен превышать 3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сударственный долг не более 60% ВВП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менный курс национальной валюты в течение двух лет не должен выходить за пределы колебаний, действующих в ЕВС (± 15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ой подразумевают особый способ функционирования денег, когда национальные деньги опосредуют международные торговые, кредитные, платежно-расчетные опер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конвертируемостью понимают свободу обмена финансовых активов. Конвертируемость валюты означает способность экономических субъектов обменивать национальную валюту на иностранную и использовать ее в расчет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епень конвертируем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жет быть различ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сли в качестве критерия выбран тип экономических отношений, отражаемых в платежном балансе, то можно выделить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текущим операциям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нвертируемость по капитальным операци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ную конвертиру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того, насколько свободно та или иная валюта обменивается на другие валюты различных стран мирового хозяйства, различают несколько видов вал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свободно-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частично конвертируемые валю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замкнутые (неконвертируемые) валю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татусу валюты классифицируют на следующие ви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циональ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остранна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условные (СД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иональные условные (ЭКЮ, с 1 января 1999 г. евро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вровалюты (валюты, участвующие в расчетах третьих стран и не контролируемые финансовыми органами страны-эмитент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ой валю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зервная валюта — это конвертируемая национальная валюта, котора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полняет функции международного платежного и резервного средств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вляется базой для определения валютного паритета и валютных курсов для валют других стран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спользуется для проведения валютных интервенций и формирования официальных золотовалютных резервов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курс — это цена денежной единицы данной страны, выраженная в денежной единице другой страны или международных счетных валютных единица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основе валютного курс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собенно при фиксированном режиме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лежит валютный паритет — это соотношение между двумя валютами, устанавливаемое в законодательном поряд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д валютной системой понимается совокупность денежно-кредитных отношений, сложившихся между субъектами мирового хозяйства на базе интернационализации хозяйственной жизни и развития мирового рынка, закрепленная в международных договорных и государственно-правовых норм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мере интернационализации хозяйственных связей формируются национальная, региональная и мировая валютные систем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ксированные валютные курсы (предполагают наличие официально зарегистрированных паритетов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льно фиксированные (опираются на золотой паритет, отклоняются в пределах «золотых точек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говорно фиксированные (опираются на: согласованный эталон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лассификация форм валютных курсов по способу фикс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ибкие валютные курсы (у валют отсутствует официальный паритет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вающие (изменяются в зависимости от спроса и предложен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леблющие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изменяются от спроса и предложения, но корректируются валютными интервенциями центральных банков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 способу расчета валютные курсы бывают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актическ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тетны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т. е. определенные исходя из паритета покупательной способности валют сравниваемых стран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учетом инфляции необходимо различать номинальный и реальный  валютные курсы, которые отличаются друг от друга в зависимости от соотношения цен в сравниваемых стран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колебания валютного курса воздействуют следующие фактор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е относительных темпов инфляции (рост цен) и объема денежной масс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тежный баланс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личия в процентных ставк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кулятивные валютные опер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пень использования в международных расчета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государственного и рыночного регулир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кроэкономические показатели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бъективные факторы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3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а и валютные курсы, регулирование валютного кур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ующая бюджетно-налоговая и денежно-кредитная политики сопровождаются снижением налогов и ставки процент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живление инвестиционной активности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т объем внутренни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предложения национальной валюты для зарубежных инвестиций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текционистская политика увеличивает налоги на импорт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импорта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нижение спроса на иностранную валюту </a:t>
            </a:r>
            <a:r>
              <a:rPr b="0" lang="ru-RU" sz="2400" spc="-1" strike="noStrike">
                <a:solidFill>
                  <a:srgbClr val="000000"/>
                </a:solidFill>
                <a:latin typeface="바탕"/>
                <a:ea typeface="바탕"/>
              </a:rPr>
              <a:t>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ается реальный валютный кур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ая антиинфляционная политика укрепляет национальную валю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представляет собой систему устойчивых экономических и организационных отношений, возникающих в результате операций по купле-продаже иностранной валюты и различных валютных ценностей.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ъюнктура валютного ры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ределяе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жившимися в данный момен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просом и предложением на иностранную валют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 выходе на валютный рынок экономические субъекты преследуют различные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прерывное осуществление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иверсификация валютных резервов и их пополне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прибыл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еджирование от валютных и кредитных риск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дение валютной полити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учение международных креди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ой задачей валютного рынка является обслуживание международных экономически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 современном этап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рынок выглядит как совокупность национальных, региональных и мировых рынк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ациональных валютных относ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 середине XIX ве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дпосыл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регулярных МЭ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сокая степень концентрации и централизации банковского капитал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рреспондентские отношения между бан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распространение кредитных средств международных расче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средств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ие валютных ограничений по текущим счета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 степени либерализации внутреннего валютного законодательст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циональный валютный рынок может существовать в форме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уофициальног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черного»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национальную валютную систему возлагается ряд функц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и использование валютных рес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внешнеэкономических связей стран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оптимальных условий функционирования национального хозяй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арактеристика мирового валютного рын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сутствуют валютные ограничени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уществляется огромное число сдел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аствуют субъекты всех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0% общего международного оборота приходи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сновные 5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личие международ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инансовых центр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ые финансовые цен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ста сосредоточения банков, специализированных кредитно-финансовых институтов, где осуществляются международные валютные, кредитные, финансовые операции, сделки с ценными бумагам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ипы валютных рынко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зависимости от степени их организованност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ованные или биржевые валютные рын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организованные или межбанковские валютные рын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промышленно развитых странах около 90% валютных сделок приходится на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биржевые валютные сдел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иды валютных рынк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ынок немедленной поставки валют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 течении двух рабочих дней)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– наличный или спот-рын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(форвардный рынок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е валютные контракты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орвард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вне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ьючерсный контрак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биржевой контракт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опци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характеризует право, а не обязанность купить/продать валюту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4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алютный рынок: понятие, виды, современные тенденции развит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обенности мирового валютного рынка на современном этап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ст интернационализации валютных рынков стран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ерации совершаются непрерывно в течение суток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цируется техника валютных операций, международных расчетов и кредит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стро развивае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рочный сектор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алютного ры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тет объем валютных операций с целью страхо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 применяются электронные средства связ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Валютный Фонд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ежправительственная организация, предназначенная для регулирования валютно-кредитных отношений между государствами-членами и оказания им финансовой 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него входит 184 страны-участниц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МВФ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поддержк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3 года 3 мес.-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сширенные кредит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рок погашения 4,5 до 10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енсационные кредиты и кредиты финансирования буферных запас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менее развитых стран на срок от 3 лет 3 мес. до 5 лет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труктурной адапт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для урегулирования долгового кризиса Р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редиты системной трансформ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едиты МВФ выдаются, как правило, кредитными долями (транши) по 25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 (МБРР) или Всемирный банк предназначен для финансирования средне- и долгосрочных проектов развития инфраструктуры экономик развивающихся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л создан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944 г. на Бреттон-Вудской международной конференции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Членами МБРР могут быть только страны-члены МВФ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ппа Всемирного ба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это многоструктурная международная кредитная организац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ый банк реконструкции 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БРР) имеет два филиал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ассоциация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АР) создана в 1960 г. МАР предоставляет беспроцентные кредиты наименее развитым странам на срок 35-40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ждународная финансовая корпор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МФК) создана в 1956 г. с целью стимулирования частных инвестиций в промышленность молодых государ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группу Мирового банка входят еще три организ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ногостороннее инвестиционно-гарантийное агентст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МИГА) учреждено в 1988 г. Его цель — страхования инвестиций и прямых капиталовложений от некоммерческих рис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ждународный центр по урегулированию инвестиционных разногласий,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зданный в 1966 году. Его цель- выступать арбитром в конфликтах между государствами-членами и иностранными инвестор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пециальный фонд помощи для Африки Южнее Сахар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созданный в 1985 году. Его цель — распоряжение специальными средствами на оказание чрезвычайной помощи бедным африканским странам, начавшим реализацию крупных программ структурных рефор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ровая валютная система (МВС) — это глобальная форма организации валютных отношений в рамках мирового хозяйства, закрепленная многосторонними межгосударственными соглашениями и регулируемая международными валютно-кредитными и финансовыми организаци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ВС включает валютные отношения и валютный механиз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5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оль международных финансовых организаций в функционировании МВ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международных валютно-финансовых и кредитных отношениях участвуют и частные клубы кредиторо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арижский клуб стран-креди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это неформальная организация индустриально развитых стран (19), где обсуждаются проблемы урегулирования, отсрочки платежей по государственному долгу стра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Лондонский клуб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является неформальной организацией крупнейших банков-кредиторов (600 - 1000), где обсуждаются проблемы урегулирования частной внешней задолженности стран-должник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ми отношениями называется совокупность денежных отношений, определяющих платежно-расчетные операции между национальными хозяйства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алютный механизм представляет собой правовые нормы и представляющие их инструменты как на национальном, так и на международном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качестве основны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ункций МВС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едует отметит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осредование международных экономических связ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платежно-расчетного оборота в рамках мирового хозяйст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еспечение необходимых условий для нормального воспроизводственного процесс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ирование и координирование режимов национальных валютных сист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и стандартизация принципов валютных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ровая валютная система: сущность, виды, элемен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172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элементы мировой валютной систем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ервные валюты и международные счетные валютные единиц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ловия взаимной конвертируемости валю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гламентация режимов валютных курс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государственное регулирование валютных огранич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фикация форм международных расчетов и кредитных средст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 мировых валютных рынков и рынков золо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ждународные валютные организации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ыделяют следующие этап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. Парижская валютная система (с 1867 г. по 20-е годы XX в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. Генуэзская валютная система (с 1922 г. по 30-е годы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. Бреттон-Вудская валютная система (с 1944 г. по 1976 г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. Ямайская валютная система (с 1976—1978 годов по настояще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прос 2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волюция мировой валютной систем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ми принципами золотомонетного стандарта являлись следующ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становлено золотое содержание национальных денежных единиц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золото выполняло функцию мировых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банкноты свободно обменивались на золото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курс валюты мог отклоняться от монетных паритетов в пределах «золотых точек»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резервная валюта - английский фунт стерлингов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 поддерживалось жесткое соотношение между национальным золотым запасом и внутренним предложением дене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 дефицит платежных балансов покрывался золот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39:54Z</dcterms:created>
  <dc:creator>Lena</dc:creator>
  <dc:description/>
  <dc:language>en-US</dc:language>
  <cp:lastModifiedBy>LEGION</cp:lastModifiedBy>
  <dcterms:modified xsi:type="dcterms:W3CDTF">2016-01-05T11:05:41Z</dcterms:modified>
  <cp:revision>19</cp:revision>
  <dc:subject/>
  <dc:title>Тема 6. Международная валютная система и мировой валютный рынок</dc:title>
</cp:coreProperties>
</file>